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74C-1F9E-480B-881A-4769E34A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E70-1898-4A2C-8288-A30A4FF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F06-59DE-436C-A993-7C606B1B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78D-60F2-4593-981C-F2359C7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B86-FE98-4F16-B57A-24E7E1B8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0BC-3747-4E6E-92DD-DB82808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0C9-E799-4D7D-93AC-7A02A526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505-5523-4CBC-9B2C-0CE085F7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0DC-D32B-4AF1-964F-2848129A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94E-2E45-4353-9BD1-485E2BE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C24-15B4-4663-8B74-683126F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A16-2D55-4D74-AE2C-8A3ECF6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DCC-7BE4-4E77-85A3-FCA9D6EB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e 801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19 de nov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2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practicamos los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una oracion original con cada verb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743560" y="3962520"/>
            <a:ext cx="1604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745720" y="4419720"/>
            <a:ext cx="158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755080" y="4876920"/>
            <a:ext cx="1587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652720" y="3962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652360" y="441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72440" y="4876920"/>
            <a:ext cx="160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2620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279680" y="4876920"/>
            <a:ext cx="1688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leta con la forma correcta del ver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y nosotros _____________ a jugar a las dos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 ganar.  No ___________ per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sotros ___________ el partido de hoy, _________ todo.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(pe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-escribe las oraciones d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.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DEPORTES EN EL MUNDO HISP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09:59Z</dcterms:created>
  <dc:creator>Helen Zumaeta</dc:creator>
  <dc:description/>
  <dc:language>en-US</dc:language>
  <cp:lastModifiedBy>Helen Zumaeta</cp:lastModifiedBy>
  <cp:lastPrinted>2014-11-19T20:20:18Z</cp:lastPrinted>
  <dcterms:modified xsi:type="dcterms:W3CDTF">2014-11-21T20:27:00Z</dcterms:modified>
  <cp:revision>10</cp:revision>
  <dc:subject/>
  <dc:title>Me llamo _________ Clase 7 IM La fecha es 3 de diciembre del 2010</dc:title>
</cp:coreProperties>
</file>